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0210-C184-43FB-B15C-165E9E04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866E-CE95-486C-9E4D-6B7AF8A5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7310-C951-4EC5-8B28-A0292E0B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6BB2-EBB0-4DDA-90C8-44CE2281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A412-B7C9-4078-B408-F381CAC1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421D-A094-406A-B876-59DEE4C4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144D-D7F2-45A1-9A00-181DA377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F05C-4C5D-40DE-B7D0-88AF19C0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2934-7CC0-4E2F-ABA0-138C3403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0A6-4C4B-4209-8251-C693EAB9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0236-BF45-4377-ABE9-23ED14F7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0647-38B2-4299-9EAE-5335ED6B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3DCF-AC29-4D44-A514-28603D4F2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8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Hurray" TargetMode="External"/><Relationship Id="rId2" Type="http://schemas.microsoft.com/office/2007/relationships/media" Target="file:///tmp/home/.config/libreoffice/4/user/gallery/Hurray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Rounded MT Bold"/>
              </a:rPr>
              <a:t>Learning </a:t>
            </a:r>
            <a:r>
              <a:rPr b="0" lang="en-US" sz="7200" spc="-1" strike="noStrike">
                <a:solidFill>
                  <a:srgbClr val="ff5050"/>
                </a:solidFill>
                <a:latin typeface="Arial Rounded MT Bold"/>
              </a:rPr>
              <a:t>C</a:t>
            </a:r>
            <a:r>
              <a:rPr b="0" lang="en-US" sz="7200" spc="-1" strike="noStrike">
                <a:solidFill>
                  <a:srgbClr val="ff9933"/>
                </a:solidFill>
                <a:latin typeface="Arial Rounded MT Bold"/>
              </a:rPr>
              <a:t>o</a:t>
            </a:r>
            <a:r>
              <a:rPr b="0" lang="en-US" sz="7200" spc="-1" strike="noStrike">
                <a:solidFill>
                  <a:srgbClr val="ffcc00"/>
                </a:solidFill>
                <a:latin typeface="Arial Rounded MT Bold"/>
              </a:rPr>
              <a:t>l</a:t>
            </a:r>
            <a:r>
              <a:rPr b="0" lang="en-US" sz="7200" spc="-1" strike="noStrike">
                <a:solidFill>
                  <a:srgbClr val="009900"/>
                </a:solidFill>
                <a:latin typeface="Arial Rounded MT Bold"/>
              </a:rPr>
              <a:t>o</a:t>
            </a:r>
            <a:r>
              <a:rPr b="0" lang="en-US" sz="7200" spc="-1" strike="noStrike">
                <a:solidFill>
                  <a:srgbClr val="333399"/>
                </a:solidFill>
                <a:latin typeface="Arial Rounded MT Bold"/>
              </a:rPr>
              <a:t>r</a:t>
            </a:r>
            <a:r>
              <a:rPr b="0" lang="en-US" sz="7200" spc="-1" strike="noStrike">
                <a:solidFill>
                  <a:srgbClr val="800080"/>
                </a:solidFill>
                <a:latin typeface="Arial Rounded MT Bold"/>
              </a:rPr>
              <a:t>s</a:t>
            </a:r>
            <a:r>
              <a:rPr b="0" lang="en-US" sz="7200" spc="-1" strike="noStrike">
                <a:solidFill>
                  <a:srgbClr val="000000"/>
                </a:solidFill>
                <a:latin typeface="Arial Rounded MT Bold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971800" y="1905120"/>
            <a:ext cx="3124080" cy="3047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 Rounded MT Bold"/>
              </a:rPr>
              <a:t>That’s Right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60043"/>
                </a:solidFill>
                <a:latin typeface="Arial Rounded MT Bold"/>
              </a:rPr>
              <a:t>ora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7620120" y="58672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3794"/>
                </a:moveTo>
                <a:lnTo>
                  <a:pt x="25358" y="10800"/>
                </a:lnTo>
                <a:lnTo>
                  <a:pt x="11345" y="17806"/>
                </a:lnTo>
                <a:close/>
              </a:path>
            </a:pathLst>
          </a:custGeom>
          <a:solidFill>
            <a:srgbClr val="99336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 Rounded MT Bold"/>
              </a:rPr>
              <a:t>pur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1143000" y="1295280"/>
            <a:ext cx="312408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4876920" y="1295280"/>
            <a:ext cx="3124080" cy="30481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60043"/>
                </a:solidFill>
                <a:latin typeface="Arial Rounded MT Bold"/>
              </a:rPr>
              <a:t>Please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previousslide"/>
          </p:cNvPr>
          <p:cNvSpPr/>
          <p:nvPr/>
        </p:nvSpPr>
        <p:spPr>
          <a:xfrm>
            <a:off x="3048120" y="312408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Wingdings"/>
                <a:ea typeface="Wingdings"/>
              </a:rPr>
              <a:t>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 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419720" y="4648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8120" y="1905120"/>
            <a:ext cx="3124080" cy="30477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 Rounded MT Bold"/>
              </a:rPr>
              <a:t>That’s Right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60043"/>
                </a:solidFill>
                <a:latin typeface="Arial Rounded MT Bold"/>
              </a:rPr>
              <a:t>purp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7620120" y="58672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3794"/>
                </a:moveTo>
                <a:lnTo>
                  <a:pt x="25358" y="10800"/>
                </a:lnTo>
                <a:lnTo>
                  <a:pt x="11345" y="17806"/>
                </a:lnTo>
                <a:close/>
              </a:path>
            </a:pathLst>
          </a:custGeom>
          <a:solidFill>
            <a:srgbClr val="99336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 Rounded MT Bold"/>
              </a:rPr>
              <a:t>g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1143000" y="1295280"/>
            <a:ext cx="3124080" cy="3048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4876920" y="1295280"/>
            <a:ext cx="3124080" cy="30481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60043"/>
                </a:solidFill>
                <a:latin typeface="Arial Rounded MT Bold"/>
              </a:rPr>
              <a:t>Please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3048120" y="312408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Wingdings"/>
                <a:ea typeface="Wingdings"/>
              </a:rPr>
              <a:t>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 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19720" y="4800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95480" y="1828800"/>
            <a:ext cx="3124440" cy="3048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 Rounded MT Bold"/>
              </a:rPr>
              <a:t>That’s Right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60043"/>
                </a:solidFill>
                <a:latin typeface="Arial Rounded MT Bold"/>
              </a:rPr>
              <a:t>gre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7620120" y="58672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3794"/>
                </a:moveTo>
                <a:lnTo>
                  <a:pt x="25358" y="10800"/>
                </a:lnTo>
                <a:lnTo>
                  <a:pt x="11345" y="17806"/>
                </a:lnTo>
                <a:close/>
              </a:path>
            </a:pathLst>
          </a:custGeom>
          <a:solidFill>
            <a:srgbClr val="99336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 Rounded MT Bold"/>
              </a:rPr>
              <a:t>br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1143000" y="1295280"/>
            <a:ext cx="3124080" cy="30481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4876920" y="1295280"/>
            <a:ext cx="3124080" cy="3048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60043"/>
                </a:solidFill>
                <a:latin typeface="Arial Rounded MT Bold"/>
              </a:rPr>
              <a:t>Please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3048120" y="312408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Wingdings"/>
                <a:ea typeface="Wingdings"/>
              </a:rPr>
              <a:t>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 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19720" y="4648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971800" y="1905120"/>
            <a:ext cx="3124080" cy="30477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 Rounded MT Bold"/>
              </a:rPr>
              <a:t>That’s Right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60043"/>
                </a:solidFill>
                <a:latin typeface="Arial Rounded MT Bold"/>
              </a:rPr>
              <a:t>brow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7620120" y="58672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3794"/>
                </a:moveTo>
                <a:lnTo>
                  <a:pt x="25358" y="10800"/>
                </a:lnTo>
                <a:lnTo>
                  <a:pt x="11345" y="17806"/>
                </a:lnTo>
                <a:close/>
              </a:path>
            </a:pathLst>
          </a:custGeom>
          <a:solidFill>
            <a:srgbClr val="99336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0043"/>
                </a:solidFill>
                <a:latin typeface="Arial Rounded MT Bold"/>
              </a:rPr>
              <a:t>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1143000" y="1295280"/>
            <a:ext cx="312408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4876920" y="1295280"/>
            <a:ext cx="3124080" cy="30481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 Rounded MT Bold"/>
              </a:rPr>
              <a:t>b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1143000" y="1295280"/>
            <a:ext cx="3124080" cy="3048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4876920" y="1295280"/>
            <a:ext cx="3124080" cy="30481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60043"/>
                </a:solidFill>
                <a:latin typeface="Arial Rounded MT Bold"/>
              </a:rPr>
              <a:t>Please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3048120" y="312408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Wingdings"/>
                <a:ea typeface="Wingdings"/>
              </a:rPr>
              <a:t>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 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419720" y="4800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8120" y="1905120"/>
            <a:ext cx="3124080" cy="30477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 Rounded MT Bold"/>
              </a:rPr>
              <a:t>That’s Right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60043"/>
                </a:solidFill>
                <a:latin typeface="Arial Rounded MT Bold"/>
              </a:rPr>
              <a:t>bl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7620120" y="58672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3794"/>
                </a:moveTo>
                <a:lnTo>
                  <a:pt x="25358" y="10800"/>
                </a:lnTo>
                <a:lnTo>
                  <a:pt x="11345" y="17806"/>
                </a:lnTo>
                <a:close/>
              </a:path>
            </a:pathLst>
          </a:custGeom>
          <a:solidFill>
            <a:srgbClr val="99336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 Rounded MT Bold"/>
              </a:rPr>
              <a:t>wh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1143000" y="1295280"/>
            <a:ext cx="3124080" cy="3048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4876920" y="1295280"/>
            <a:ext cx="312408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60043"/>
                </a:solidFill>
                <a:latin typeface="Arial Rounded MT Bold"/>
              </a:rPr>
              <a:t>Please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3048120" y="312408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Wingdings"/>
                <a:ea typeface="Wingdings"/>
              </a:rPr>
              <a:t>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 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419720" y="4648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8120" y="1828800"/>
            <a:ext cx="312408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 Rounded MT Bold"/>
              </a:rPr>
              <a:t>That’s Right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60043"/>
                </a:solidFill>
                <a:latin typeface="Arial Rounded MT Bold"/>
              </a:rPr>
              <a:t>wh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7620120" y="58672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3794"/>
                </a:moveTo>
                <a:lnTo>
                  <a:pt x="25358" y="10800"/>
                </a:lnTo>
                <a:lnTo>
                  <a:pt x="11345" y="17806"/>
                </a:lnTo>
                <a:close/>
              </a:path>
            </a:pathLst>
          </a:custGeom>
          <a:solidFill>
            <a:srgbClr val="99336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 Rounded MT Bold"/>
              </a:rPr>
              <a:t>p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1143000" y="1295280"/>
            <a:ext cx="3124080" cy="3048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1295280"/>
            <a:ext cx="3124080" cy="3048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60043"/>
                </a:solidFill>
                <a:latin typeface="Arial Rounded MT Bold"/>
              </a:rPr>
              <a:t>Please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3048120" y="312408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Wingdings"/>
                <a:ea typeface="Wingdings"/>
              </a:rPr>
              <a:t>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 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419720" y="4800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971800" y="1828800"/>
            <a:ext cx="3124080" cy="3048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 Rounded MT Bold"/>
              </a:rPr>
              <a:t>That’s Right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60043"/>
                </a:solidFill>
                <a:latin typeface="Arial Rounded MT Bold"/>
              </a:rPr>
              <a:t>pin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7620120" y="58672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3794"/>
                </a:moveTo>
                <a:lnTo>
                  <a:pt x="25358" y="10800"/>
                </a:lnTo>
                <a:lnTo>
                  <a:pt x="11345" y="17806"/>
                </a:lnTo>
                <a:close/>
              </a:path>
            </a:pathLst>
          </a:custGeom>
          <a:solidFill>
            <a:srgbClr val="99336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 Rounded MT Bold"/>
              </a:rPr>
              <a:t>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295280"/>
            <a:ext cx="312408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1295280"/>
            <a:ext cx="3124080" cy="30481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60043"/>
                </a:solidFill>
                <a:latin typeface="Arial Rounded MT Bold"/>
              </a:rPr>
              <a:t>Please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previousslide"/>
          </p:cNvPr>
          <p:cNvSpPr/>
          <p:nvPr/>
        </p:nvSpPr>
        <p:spPr>
          <a:xfrm>
            <a:off x="3048120" y="312408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Wingdings"/>
                <a:ea typeface="Wingdings"/>
              </a:rPr>
              <a:t>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 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4800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60043"/>
                </a:solidFill>
                <a:latin typeface="Arial Rounded MT Bold"/>
              </a:rPr>
              <a:t>Please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3048120" y="312408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Wingdings"/>
                <a:ea typeface="Wingdings"/>
              </a:rPr>
              <a:t>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 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419720" y="4648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971800" y="1828800"/>
            <a:ext cx="312408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 Rounded MT Bold"/>
              </a:rPr>
              <a:t>That’s Right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60043"/>
                </a:solidFill>
                <a:latin typeface="Arial Rounded MT Bold"/>
              </a:rPr>
              <a:t>bl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7620120" y="58672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3794"/>
                </a:moveTo>
                <a:lnTo>
                  <a:pt x="25358" y="10800"/>
                </a:lnTo>
                <a:lnTo>
                  <a:pt x="11345" y="17806"/>
                </a:lnTo>
                <a:close/>
              </a:path>
            </a:pathLst>
          </a:custGeom>
          <a:solidFill>
            <a:srgbClr val="99336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1218960"/>
            <a:ext cx="89917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660033"/>
                </a:solidFill>
                <a:latin typeface="Arial Rounded MT Bold"/>
              </a:rPr>
              <a:t>Awesome!</a:t>
            </a:r>
            <a:br>
              <a:rPr sz="9000"/>
            </a:br>
            <a:r>
              <a:rPr b="0" lang="en-US" sz="8000" spc="-1" strike="noStrike">
                <a:solidFill>
                  <a:srgbClr val="ff5050"/>
                </a:solidFill>
                <a:latin typeface="Arial Rounded MT Bold"/>
              </a:rPr>
              <a:t>You are don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419720" y="4876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715000" y="5715000"/>
            <a:ext cx="3124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33"/>
                </a:solidFill>
                <a:latin typeface="Arial Rounded MT Bold"/>
              </a:rPr>
              <a:t>Created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 Rounded MT Bold"/>
              </a:rPr>
              <a:t>Lizzy Pur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 Rounded MT Bold"/>
              </a:rPr>
              <a:t>September 7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971800" y="1828800"/>
            <a:ext cx="312408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 Rounded MT Bold"/>
              </a:rPr>
              <a:t>That’s Right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60043"/>
                </a:solidFill>
                <a:latin typeface="Arial Rounded MT Bold"/>
              </a:rPr>
              <a:t>r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7620120" y="58672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3794"/>
                </a:moveTo>
                <a:lnTo>
                  <a:pt x="25358" y="10800"/>
                </a:lnTo>
                <a:lnTo>
                  <a:pt x="11345" y="17806"/>
                </a:lnTo>
                <a:close/>
              </a:path>
            </a:pathLst>
          </a:custGeom>
          <a:solidFill>
            <a:srgbClr val="99336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733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 Rounded MT Bold"/>
              </a:rPr>
              <a:t>yel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1143000" y="1295280"/>
            <a:ext cx="3124080" cy="30481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4876920" y="1295280"/>
            <a:ext cx="3124080" cy="3048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60043"/>
                </a:solidFill>
                <a:latin typeface="Arial Rounded MT Bold"/>
              </a:rPr>
              <a:t>Please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3048120" y="312408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Wingdings"/>
                <a:ea typeface="Wingdings"/>
              </a:rPr>
              <a:t>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 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19720" y="4648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8120" y="1905120"/>
            <a:ext cx="3124080" cy="3047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 Rounded MT Bold"/>
              </a:rPr>
              <a:t>That’s Right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60043"/>
                </a:solidFill>
                <a:latin typeface="Arial Rounded MT Bold"/>
              </a:rPr>
              <a:t>yel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7620120" y="58672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3794"/>
                </a:moveTo>
                <a:lnTo>
                  <a:pt x="25358" y="10800"/>
                </a:lnTo>
                <a:lnTo>
                  <a:pt x="11345" y="17806"/>
                </a:lnTo>
                <a:close/>
              </a:path>
            </a:pathLst>
          </a:custGeom>
          <a:solidFill>
            <a:srgbClr val="99336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 Rounded MT Bold"/>
              </a:rPr>
              <a:t>o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1143000" y="1295280"/>
            <a:ext cx="3124080" cy="3048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4876920" y="1295280"/>
            <a:ext cx="3124080" cy="3048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60043"/>
                </a:solidFill>
                <a:latin typeface="Arial Rounded MT Bold"/>
              </a:rPr>
              <a:t>Please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3048120" y="312408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Wingdings"/>
                <a:ea typeface="Wingdings"/>
              </a:rPr>
              <a:t>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 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4800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5:16:27Z</dcterms:created>
  <dc:creator>wcpss</dc:creator>
  <dc:description/>
  <dc:language>en-US</dc:language>
  <cp:lastModifiedBy>Elizabeth Purcell</cp:lastModifiedBy>
  <dcterms:modified xsi:type="dcterms:W3CDTF">2007-09-08T02:49:09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